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434-148E-427E-ADDB-19F5EFBF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F2C-AC2A-48DC-869F-6915A548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CC4-A775-4832-9D70-30F06B75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840-A083-4BA1-93D0-C5DFE7E3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14D-C1F2-47DA-8F1F-B387ED7D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B39-01C6-43D5-829D-E66320A5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0B7-455E-49FC-A38E-8216163C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B63-CF7B-45DA-AF31-DE511417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E9F3-CBE9-4604-A5FE-49A435D6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AED-B72E-4F52-AC30-00740940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7E5-2259-42C5-8513-6AC0FB2F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96B-3A02-47B0-AC92-487E33CE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439A-338D-4F43-AE1A-38BFFD63D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5360" y="1044720"/>
            <a:ext cx="952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Eastern Woodlands India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3733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50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544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7616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68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57240" y="2022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0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3412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248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1824120" cy="1790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34934" r="0" b="0"/>
          <a:stretch/>
        </p:blipFill>
        <p:spPr>
          <a:xfrm>
            <a:off x="404640" y="2590920"/>
            <a:ext cx="83347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328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968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11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1076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2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9240" y="198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148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00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91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91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4336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579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97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574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96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576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23261" r="0" b="-19086"/>
          <a:stretch/>
        </p:blipFill>
        <p:spPr>
          <a:xfrm>
            <a:off x="1752480" y="2895480"/>
            <a:ext cx="5629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63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2528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3968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7776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5105520" cy="434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0036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4336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828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6204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1972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4880" y="1295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4176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81080" y="2514600"/>
            <a:ext cx="5114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1680" y="1793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604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132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35120" y="182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364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396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64080" y="2803680"/>
            <a:ext cx="1814400" cy="1249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52480" y="2514600"/>
            <a:ext cx="4724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535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952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3352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196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68280" y="2174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58640" y="2174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4160" y="2174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21337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83400" y="2133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18:32Z</dcterms:modified>
  <cp:revision>20</cp:revision>
  <dc:subject/>
  <dc:title>No Slide Title</dc:title>
</cp:coreProperties>
</file>